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590-C24F-4EF8-9285-6FFB4C7D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8C9-2EC9-4231-AADA-3F1099AE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442-F4D5-4127-B481-BE555802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33B-1B7E-4183-A5A6-AC7946AD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0CB-123B-4138-99B9-CCF25CDC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6C7-7B6D-45D4-8856-2E0A57F9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DBE-A97D-4AA6-8B34-1FBE764F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A28-5BCF-40EC-819F-0C01FD22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353-39AD-47C9-8432-3FF59B9A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FCB-CFCE-4ED5-B834-2995D6E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97C-7023-427E-8AD4-55C032EF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E14-ABF1-4349-96AB-5D91148E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7FC0-3A0C-4652-8406-7C3E827B3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916280"/>
            <a:ext cx="5618160" cy="239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7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бига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3171960"/>
            <a:ext cx="31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 сыйныф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8864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рек табигатне өйрә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оология,                             -биология,                         - бот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Тереклек ияләрен икенче төрле организмнар, ди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Тереклек ияләре терек булмаган табигатьтән түбәндәгеләр белән аеры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сулый,                                                           - тукл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ә,                                                               - үсеш ал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сып тора, егылмый,                                - үр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л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                                        - хайванна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                                            - бактериялә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Иң беренче тапкырбактерияләрне нәрсә белән күргәннә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кроскоп,                                                            - телеско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лупа,                                                                       - кине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6"/>
          <p:cNvSpPr txBox="1"/>
          <p:nvPr/>
        </p:nvSpPr>
        <p:spPr>
          <a:xfrm>
            <a:off x="971640" y="1052640"/>
            <a:ext cx="7488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ек  табигатьне   өйрәнә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и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зо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ота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43640" y="234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79280" y="549360"/>
            <a:ext cx="896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клек   ияләрен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кенче  төрле  организмнар,  диләр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92360" y="472428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694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1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хайванна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ктерия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</a:t>
            </a: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580000" y="378936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215640"/>
            <a:ext cx="914400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реклек ияләре терек булмаган табигатьтән түбәндәгеләр белән аерыла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сул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тукла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ә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еш ала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басып тора, егылм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р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лә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80000" y="364500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50920" y="85428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5. Иң беренче тапкыр бактерияләрне нәрсә белән күргәннә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микроскоп,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лескоп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луп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кине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356000" y="20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55:22Z</dcterms:created>
  <dc:creator>Admin</dc:creator>
  <dc:description/>
  <dc:language>en-US</dc:language>
  <cp:lastModifiedBy>Admin</cp:lastModifiedBy>
  <dcterms:modified xsi:type="dcterms:W3CDTF">2012-09-11T17:31:40Z</dcterms:modified>
  <cp:revision>18</cp:revision>
  <dc:subject/>
  <dc:title>Слайд 1</dc:title>
</cp:coreProperties>
</file>